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FEC-FC94-436F-84A3-23C68F29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70F-B267-422B-903E-37769E49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E10-2688-4483-B520-7016FA8C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6D9-E686-4AE9-A58F-6CBB1238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ADB-17FF-4436-B5FD-11CF9B15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62C-7340-46E4-A7DC-6C45CA79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419-C223-4A75-B2FD-0325E522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B4A-0014-4B76-8D18-FAE1182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2A3-9073-41E5-B782-BA0E191B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B68-6E21-4062-AB4A-988CB1F0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047-399C-4D01-9B6F-6BC0F90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72E-D9D4-4EF4-BACF-60CD9722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9FD2-7F38-4E9F-887E-5D96070C3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nsu.edu/emuseum/history/middleages/contents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127840" y="1369800"/>
            <a:ext cx="41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medium aevum”,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(Medieval)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Is Latin for the Middle Ages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6" descr="rainb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0" y="0"/>
            <a:ext cx="449568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ld English Text MT"/>
              </a:rPr>
              <a:t>Agenda 4-4-11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Shield due next block day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990720"/>
            <a:ext cx="47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ocus: 4-4-11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List 3 reasons why Rome Fell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52280" y="1676520"/>
            <a:ext cx="5105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Rome became too big to govern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barbarian attacks weakened the empire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army became weaker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6002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Dark Ages  ---   Estate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200400" y="5943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Feudalism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fief"/>
          <p:cNvPicPr/>
          <p:nvPr/>
        </p:nvPicPr>
        <p:blipFill>
          <a:blip r:embed="rId1"/>
          <a:stretch/>
        </p:blipFill>
        <p:spPr>
          <a:xfrm>
            <a:off x="304920" y="2133720"/>
            <a:ext cx="5181480" cy="4038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066680" y="1066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Fief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72" name="Picture 5" descr="friar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5349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6386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Friar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eresy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5486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752480" y="3808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Heresy</a:t>
            </a:r>
            <a:endParaRPr b="0" lang="en-US" sz="40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nquisition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298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447920" y="457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Inquistion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jester"/>
          <p:cNvPicPr/>
          <p:nvPr/>
        </p:nvPicPr>
        <p:blipFill>
          <a:blip r:embed="rId1"/>
          <a:stretch/>
        </p:blipFill>
        <p:spPr>
          <a:xfrm>
            <a:off x="914400" y="1752480"/>
            <a:ext cx="2517840" cy="4419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049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Jester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80" name="Picture 4" descr="joust"/>
          <p:cNvPicPr/>
          <p:nvPr/>
        </p:nvPicPr>
        <p:blipFill>
          <a:blip r:embed="rId2"/>
          <a:stretch/>
        </p:blipFill>
        <p:spPr>
          <a:xfrm>
            <a:off x="4648320" y="1219320"/>
            <a:ext cx="4190760" cy="5333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80060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Joust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king3"/>
          <p:cNvPicPr/>
          <p:nvPr/>
        </p:nvPicPr>
        <p:blipFill>
          <a:blip r:embed="rId1"/>
          <a:stretch/>
        </p:blipFill>
        <p:spPr>
          <a:xfrm>
            <a:off x="-304920" y="19051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04920" y="380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84" name="Picture 4" descr="knight4"/>
          <p:cNvPicPr/>
          <p:nvPr/>
        </p:nvPicPr>
        <p:blipFill>
          <a:blip r:embed="rId2"/>
          <a:stretch/>
        </p:blipFill>
        <p:spPr>
          <a:xfrm>
            <a:off x="3809880" y="1447920"/>
            <a:ext cx="5334120" cy="541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41972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famillenoble"/>
          <p:cNvPicPr/>
          <p:nvPr/>
        </p:nvPicPr>
        <p:blipFill>
          <a:blip r:embed="rId1"/>
          <a:stretch/>
        </p:blipFill>
        <p:spPr>
          <a:xfrm>
            <a:off x="1752480" y="1295280"/>
            <a:ext cx="5105520" cy="5334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362320" y="5335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Lord</a:t>
            </a:r>
            <a:endParaRPr b="0" lang="en-US" sz="40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medieval-musiciens"/>
          <p:cNvPicPr/>
          <p:nvPr/>
        </p:nvPicPr>
        <p:blipFill>
          <a:blip r:embed="rId1"/>
          <a:stretch/>
        </p:blipFill>
        <p:spPr>
          <a:xfrm>
            <a:off x="0" y="16765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28600" y="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Minstrels &amp;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Troubadours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90" name="Picture 5" descr="monastery"/>
          <p:cNvPicPr/>
          <p:nvPr/>
        </p:nvPicPr>
        <p:blipFill>
          <a:blip r:embed="rId2"/>
          <a:stretch/>
        </p:blipFill>
        <p:spPr>
          <a:xfrm>
            <a:off x="5181480" y="144792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2578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Monastery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rmor"/>
          <p:cNvPicPr/>
          <p:nvPr/>
        </p:nvPicPr>
        <p:blipFill>
          <a:blip r:embed="rId1"/>
          <a:stretch/>
        </p:blipFill>
        <p:spPr>
          <a:xfrm>
            <a:off x="2743200" y="304920"/>
            <a:ext cx="5486400" cy="655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0" y="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or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onk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Monk  &amp;  Priest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94" name="Picture 4" descr="serf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7692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Peasant  &amp;  Serf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T040742A"/>
          <p:cNvPicPr/>
          <p:nvPr/>
        </p:nvPicPr>
        <p:blipFill>
          <a:blip r:embed="rId1"/>
          <a:stretch/>
        </p:blipFill>
        <p:spPr>
          <a:xfrm>
            <a:off x="4573440" y="1333440"/>
            <a:ext cx="4457880" cy="548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otto"/>
          <p:cNvPicPr/>
          <p:nvPr/>
        </p:nvPicPr>
        <p:blipFill>
          <a:blip r:embed="rId2"/>
          <a:stretch/>
        </p:blipFill>
        <p:spPr>
          <a:xfrm>
            <a:off x="193680" y="133344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bishop2"/>
          <p:cNvPicPr/>
          <p:nvPr/>
        </p:nvPicPr>
        <p:blipFill>
          <a:blip r:embed="rId1"/>
          <a:stretch/>
        </p:blipFill>
        <p:spPr>
          <a:xfrm>
            <a:off x="0" y="68580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80880" y="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shop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41972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52" name="Picture 7" descr="cardinal"/>
          <p:cNvPicPr/>
          <p:nvPr/>
        </p:nvPicPr>
        <p:blipFill>
          <a:blip r:embed="rId2"/>
          <a:stretch/>
        </p:blipFill>
        <p:spPr>
          <a:xfrm>
            <a:off x="4572000" y="7621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600xPopupGallery"/>
          <p:cNvPicPr/>
          <p:nvPr/>
        </p:nvPicPr>
        <p:blipFill>
          <a:blip r:embed="rId1"/>
          <a:stretch/>
        </p:blipFill>
        <p:spPr>
          <a:xfrm>
            <a:off x="228600" y="1676520"/>
            <a:ext cx="568656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600xPopupGallery"/>
          <p:cNvPicPr/>
          <p:nvPr/>
        </p:nvPicPr>
        <p:blipFill>
          <a:blip r:embed="rId2"/>
          <a:stretch/>
        </p:blipFill>
        <p:spPr>
          <a:xfrm>
            <a:off x="6095880" y="1371600"/>
            <a:ext cx="28195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685800" y="457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ld English Text MT"/>
              </a:rPr>
              <a:t>Co Cathedral of the Sacred Heart in Downtown Housto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600xPopupGallery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80880" y="5257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ld English Text MT"/>
              </a:rPr>
              <a:t>Cardinal Daniel N. DiNardo receives a container of relics that were placed under the altar during the service.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tle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34120" y="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holic Church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60" name="Picture 5" descr="cathedral"/>
          <p:cNvPicPr/>
          <p:nvPr/>
        </p:nvPicPr>
        <p:blipFill>
          <a:blip r:embed="rId1"/>
          <a:stretch/>
        </p:blipFill>
        <p:spPr>
          <a:xfrm>
            <a:off x="5257800" y="914400"/>
            <a:ext cx="3886200" cy="59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astle3"/>
          <p:cNvPicPr/>
          <p:nvPr/>
        </p:nvPicPr>
        <p:blipFill>
          <a:blip r:embed="rId2"/>
          <a:stretch/>
        </p:blipFill>
        <p:spPr>
          <a:xfrm>
            <a:off x="0" y="15238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hivalry"/>
          <p:cNvPicPr/>
          <p:nvPr/>
        </p:nvPicPr>
        <p:blipFill>
          <a:blip r:embed="rId1"/>
          <a:stretch/>
        </p:blipFill>
        <p:spPr>
          <a:xfrm>
            <a:off x="0" y="990720"/>
            <a:ext cx="565164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715000" y="380880"/>
            <a:ext cx="34290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1.  Thou shalt believe all that the Church teaches and shall obey all her commandment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2.  Thou shalt defend the churc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3.  Thou shalt respect all weaknesses and shalt constitute thyself the defender of them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4.  Thou shalt love the country in which thou wast born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5.  Thou shalt not recoil before thine enemy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6.  Thou shalt make war against the infidel without cessation and without mercy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7.  Thou shalt perform scrupulously they feudal duties, if they be not contrary to the laws of Go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8.  Thou shalt never lie, and shalt remain faithful to thy pledged wor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9.  Thou shalt be generous, and give largess to everyon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10. Thou shalt be everywhere and always the champion of the Right and the Good against Injusti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      and Evil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Code of Chivalry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riest"/>
          <p:cNvPicPr/>
          <p:nvPr/>
        </p:nvPicPr>
        <p:blipFill>
          <a:blip r:embed="rId2"/>
          <a:stretch/>
        </p:blipFill>
        <p:spPr>
          <a:xfrm>
            <a:off x="2209680" y="1143000"/>
            <a:ext cx="449604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5909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Clergyman</a:t>
            </a:r>
            <a:endParaRPr b="0" lang="en-US" sz="40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05740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The Crusades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1-04-01T22:12:13Z</dcterms:modified>
  <cp:revision>47</cp:revision>
  <dc:subject/>
  <dc:title>PowerPoint Presentation</dc:title>
</cp:coreProperties>
</file>